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093-A462-427B-9C55-BA91D96C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A6AC-DC78-4182-ABD2-8AF00909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0E6-7860-483C-A5D6-DFC5DE9F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B79-424F-4C4A-ABC2-A7438B9C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0656-D627-476B-8E77-B999959F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FE37-2111-478F-BB72-BD74A063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5C31-C259-4122-9EFF-C0810ADE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06AA-90E6-499A-B5D9-EF5033BB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C117-F5C7-4D62-A375-BFA4272C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EB86-B81C-43CE-896F-83894A2C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353C-61F0-4602-A08B-980D3912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30E-CF38-42B2-8634-65AA39D0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F712-1E06-45B3-B4B4-0F3E101E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40E2-A7F6-4F6C-9D91-1E8FC388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E236-3484-4450-81DD-0C81983C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D612-1369-4C30-839A-173FA98F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4A62-A497-4B0B-B5AC-81F28BBD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9AE-4A81-4C3C-A596-1E101BF2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CDF-E4B4-4E5A-B369-2198685A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4F2-546F-4946-BE31-96B66BC2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C3A-0B20-441F-947B-9A507AD5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CBD-06D4-4930-B9F1-ECA414E8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789-E261-410D-9C51-CFBA4EE2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AEB-82C9-4FAF-ACF4-44395F3D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D6FF-A525-4C96-8624-F7558500075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AE53-9A47-44E0-A889-ABCC50E6930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КАТЕДРА ЗА ИНФЕКТИВН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ИЗБОРНИ ПРЕДМЕТ: ТРОПСК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Проф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. др Жељко Мијаилови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42560" y="475920"/>
            <a:ext cx="75438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ожњача постаје неосетљива и мут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мекшавање и некроза рожњаче, пихтијастог изгледа, беле или прљаво-жуте боје (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ератомала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а постаје храпава, перутава, некада и испуцала (делимично и услед сувог ваздуха и недостатка протеина у исхран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а на задњој страни надлактица прекривена карактеристичним сувим, зашиљеним папулама (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ликуларна кератоз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пидемиолошки пода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и свакој инфекцији или потхрањености у тропској Африц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тражити авитаминозу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а пр.: лезије рожњаче у току морбила су много чешће уколико постоји авитаминоза А, као смртно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ференцијална 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хом о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nitis pigmentosa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ређи у тропској Африц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ећни коњунктивитис (чест код деце у Замбиј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Про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лечена-води слепи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есте инфекције респираторног и дигестивног тра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упституциј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витамина А-200.000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I.J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уљаном раствор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спод 1 године-половина доз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о болесник повраћа или има пролив-100.000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.J.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водене суспензије им а касније дати и оралну до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ловати на потхрање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зултати су бољи ако се пре почне са лечењ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еквел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од малих ожиљака до повећих пигментованих леук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велике дозе витамина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Акутна интоксикација: повраћање, главобољ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Хронична интоксикација: анорексија, болови у костима, сува кожа, мршављење, поремећај раста, депресија, анксиозност, пад либи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Нежељени ефекти су реверзибил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Жуто воћ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апаја, ман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лено и специјално жуто повр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рвено нерафинисано палмино у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недостатку ових намирница→профилактичка примена витамина А једном/годишње деци и трудницама, као и оболелим од морби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АВИТАМИНОЗА Б</a:t>
            </a:r>
            <a:r>
              <a:rPr b="1" i="1" lang="sr-C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980640"/>
            <a:ext cx="754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чествује као коензим у бројним оксидо-редукционим реакциј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достатак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дилатација капилара, трофичне промене коже и хиперплазија слуз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 везана за ниски економски стандард (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њак протеин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 исхран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на од најчешћих авитаминоза у тропским краје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 се независно од пола и узра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и дефицит чест код трудница (нарочито трећи триместа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ицит рибофлавина се увек јавља удружен са дефицитом других витам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188640"/>
            <a:ext cx="754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рогенитални синд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Бол на уснама и језику, свраб у гениталија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Слузница усана изразито црвена, танка и нежна, често перутава и избраздана рагада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Углови усана показују фисуре (које мацерирају)-могу бити прекривене улцерацијама и круста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Језик је задебљан, јако црвене боје-најпре са израженим папилама (“малинаст”) а затим потпуно глада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Назолабиалне бразде са себороичним променама по кож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Конгестија коњунктиве и рожњаче са могућношћу корнеалне васкулариза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Скротум и вулва-хиперпигментовани (свраб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пидемиолошки подаци (недостатак протеина животињског порекла и зеленог поврћ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дговор на унос рибофлав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упституција рибофлавина 10мг/24х (или боље Б комплек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риговање ис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гноза је повољ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кључити месо, млеко, јаја и поврће у исх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АВИТАМИНОЗА НИКОТИНСКЕ КИСЕЛИНЕ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052640"/>
            <a:ext cx="754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Ниацин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есенцијална компонента никотинамид-аденид-динуклеотид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AD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 и никотинамид-аденид-динуклеотид-фосфат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ADP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, коензима бројних оксидо-редукцијских реа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иацин није витамин у правом смислу те реч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може да настане из аминокиселине триптоф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разлику од других витамина у трудноћи није повећана потреба за овим витами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нолична исхрана богата кукуруз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 то кукуруз садржи и сопствене токсичке супстан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а и јужна Африка, јужна Америка, Бенин и Т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0708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офички поремећаји коже, нервног система и слузнице дигестивног тра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Д (Дерматитис, Деменција, Дијаре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ор, слаб апетит, безизразни фацијес и раздражљивост (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пелагроидни стадијум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тходи типичној слици пелаг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А. Еритемо-сквамозна дермат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нцу изложени делови коже (лице, врат, руке) имају бакарну, црвенкасту боју-пеку, отичу, некад се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ривају плико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а добија испуцали, хиперкератозни и перутави изглед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476280"/>
            <a:ext cx="754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мене по кожи-симетрично распоређ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лицу у виду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птирових кри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предњој страни врата као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sаl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ова огрл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екстремитетима као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укавице или сок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сно су ограничене, могу трајати недељама и месец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 оставити депигментоване ожиљ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Б. Афебрилна дијареја са глоситисом (чест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енаста дијареја (много ређе слузава или кашаста столица), праћена тенезм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ад се наизменично смењује са опстипа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ови у доњем делу трбуха или епигастрију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ушица после ј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115920"/>
            <a:ext cx="754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МЕГАЛОБЛАСНА АНЕМИЈА УСЛЕД НЕДОСТАТКА ФОЛНЕ КИСЕЛ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достатак фолне киселине у исхра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достатак меса и свежег поврћа и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Њихово претерано ку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већане потребе (труднице, дојиље, деца, болесн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тежана апсорпција (ентеропатије)-тропски спру, нетропски сп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екови: метотрексат, фенобарбитон, етанол, пентамидин, триамтерен, пириметам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мбиновано деловање наведених факт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ледица: успорена синтеза ДН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авља се у читавој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рици осим у Уганди и крајевима где основу исхране чине бан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зик је отеч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сни као и језик јако болни и отечени (отежано гутање), румене бо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зик временом десквамир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оприма гладак, атрофичан изгл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Ц. Мијелонеуропатски синдром (ређ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естезије претходе дефициту сензибилитета и моторних функција на доњим екстремитетима уз губитак тетивних рефлекс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“ход петла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рамидни синдром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ојачани тетивни рефлекси, позитиван Бабински и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 спиналне атакс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тремор руку и језика, дискординација покрета, дефицит дубинског сензибилитета, конвулзије итд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66320" y="259920"/>
            <a:ext cx="754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33"/>
                </a:solidFill>
                <a:latin typeface="Times New Roman"/>
              </a:rPr>
              <a:t>Д. Психотички синдром (ретк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тходи или удружен са поменутим синдром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уравнотеженост, раздражљивост, агресивност, анксиозност, депресија и чешће-конфузија, делиријум, склоност ка суици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пидемиолошки подат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линичка слика и 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дговор на супститу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Диференцијална 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рфирија кутанеа тар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лкохолиз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истемски еритемски лупус (редак у тропској Африц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Ток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т је рецидивирајућа, јавља се сезон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рајњи исход: апатија, анемија, мршавост, заостајање у развоју, гинекомастија, импотенција, аменореја, побачај, превремени порођа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бегавати сунце током леч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икотинамид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mg/per os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комплекс витамин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ти количину протеина у исхра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ноза је добра→кожни и ментални синдроми први ишчезавају а неуролошки задњ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ететске препору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олази до успорене деобе ћелије уз очуван раст цитоплаз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тварање великих неефикасних еритроидних ћелија (функционално неефикас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ладак, болан језик, губитак чула укуса (продр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пшта исцрпљеност, бледило (шаке, усне, нок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испнеја при напо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лавобоља, тахикардија, опадање косе, систолни шум, губитак апетита, мршављ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остајање у развоју (раст, тежина и пуберте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620640"/>
            <a:ext cx="754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менореја, стерилитет, слабљење либи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телектуалне дисфункције, апатија, несаница, раздражљив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риферна неуропатија са атакс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дсуство дигестивних сметњ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нам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пидемиолошки пода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линичка слика и 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абораторијска дијагностика (крвна сл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Еритробласти (мегалобласти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)-нуклеарно-цитоплазматска асинхронија (мало једре у односу на несразмерно велику цитоплазму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MCV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(средњи волумен еритроцита)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&gt; 110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f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Леукопенија и тромбоцитопенија-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болесници са тежом анемиј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иперсегментовани неутрофил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6 или више сегмената једр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мислити на мегалобластну анемиј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рој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ретикулоцита сниж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нижена концентрациј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моглоб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иперцелуларна костна срж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са смањеним мијелоидно-еритроцитним односом и већом количином гвожђ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д тежих болесника 90% мегалобласта бива разорено у костној сржи (не доспе у циркулациј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ишене вредности некоњугованог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лирубина и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D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260280"/>
            <a:ext cx="754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глед очног д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морагија ретине и присуство ексуд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иференцијална 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ернициозна анемиј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Синдром афричке идиопатске лоше апсорп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Илео-цекална туберкул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Кронова бол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Непредвидива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срчана декомпензац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нтани побачај, превремени порођај, мртворођеност ит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ституција фолне киселине: прва два да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мг/24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потом 25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дневно до нормализације крвне сл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5438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АВИТАМИНОЗА 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907920"/>
            <a:ext cx="75438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начај витамина 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Очување интегритета слузница (респираторна, дигестивна, урогенитална, ок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Регулација ви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Улога ретинола у контроли диференцијације ћелија (епитела и мезодермних ткива)-спречавање канцерогене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Улога имуномодулатора-делује на Т-помагачке лимфоци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достата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Губитак интегритета слузница (орожавање епителних ћелиј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Кератоза фоликула дла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Смањена регенерација видног пигмента родопсина (суво и рањиво око, лош вид у сумрак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Слабљење имунског одгово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а у сувим или планинским подручјима (мањак воћа, поврћа или мле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ужно од Сахаре (Гана, Нигерија, Буркина Фасо, Чад, Етиопија, Кенија, Танзанија ит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диспонирајући фактор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Узраст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највише погођена деца 1-4 године (њихове потребе за витамином А према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kg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телесне тежине 3 пута веће него код одраслих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Дефицитарна исхрана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(воће, поврће, млек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Недостатак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Zn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погоршава авитаминозу А, због смањеног ослобађања витамина А из јет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333360"/>
            <a:ext cx="7543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Слабост вида у сумраку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 сувоћа у очима, замућење рожњач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нкретно: дете у сумраку хода пипајући или ударајући у околне предмете, ноћу не препознаје мајку ит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бјективно: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фотофоб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без знакова коњунктивитиса),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губитак сјаја оч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те плаче-не теку му сузе (крајњи стадију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 темпоралним странама булбарних коњунктива-сива задебљања пенасте површине (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Битот-ове мрљ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ожњача постаје неосетљива и мут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6:35:04Z</dcterms:created>
  <dc:creator>Bill Gates</dc:creator>
  <dc:description/>
  <dc:language>en-US</dc:language>
  <cp:lastModifiedBy>Predrag Canovic</cp:lastModifiedBy>
  <dcterms:modified xsi:type="dcterms:W3CDTF">2023-02-03T01:39:10Z</dcterms:modified>
  <cp:revision>462</cp:revision>
  <dc:subject/>
  <dc:title>Slide 1</dc:title>
</cp:coreProperties>
</file>